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8AA-1B20-457E-ABBE-4B8E97B8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B78-F721-4DC6-9C52-388E4F3D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5A74-5E62-43B7-A72F-81FC509B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11F-9CB8-4DB0-9616-0C364BAA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07CA-D33C-4E73-B186-D1CC4624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2DC2-2219-46D3-9EFE-8D85BB84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1F4-67A3-46F7-B62F-61AFF641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A5D5-55D7-45AD-B2AC-B995F16D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AA1A-01EF-43B6-95A0-E29AA116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710-0962-4609-B110-2C9F65AF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1CA-02A4-42CB-B471-E0659AD6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CE6-142D-4B9E-99FA-F2B3A83D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0AC548-9D8E-41F6-B7F9-54B159A40DB0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95640" y="5472000"/>
            <a:ext cx="1420920" cy="909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200" y="1982880"/>
            <a:ext cx="87138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Monotype Corsiva"/>
                <a:ea typeface="Times New Roman"/>
              </a:rPr>
              <a:t>DONAZIONE e TRAPIANTO di ORGANI e TESSU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cc"/>
                </a:solidFill>
                <a:latin typeface="Monotype Corsiva"/>
              </a:rPr>
              <a:t>Attività   al 24.8.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86360"/>
            <a:ext cx="49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SL-1 Avezzano - Sulmona-L’Aqu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Centro Regionale per i Trapi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Regione Abruzzo - Regione Mol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75888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80360" y="333360"/>
            <a:ext cx="812880" cy="102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20000" y="3887640"/>
            <a:ext cx="1481040" cy="79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rcRect l="0" t="0" r="0" b="10612"/>
          <a:stretch/>
        </p:blipFill>
        <p:spPr>
          <a:xfrm>
            <a:off x="179280" y="3780000"/>
            <a:ext cx="2521080" cy="2958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093080" y="5407200"/>
            <a:ext cx="125892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316080"/>
            <a:ext cx="1095120" cy="80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79640" y="737640"/>
            <a:ext cx="49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SL-1 Avezzano – Sulmona -L’Aqui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Centro Regionale per i Trapia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Regione Abruzzo - Regione Moli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24720" y="260280"/>
            <a:ext cx="1000080" cy="809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2000" y="2519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Attività donazione organi al 24.8.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4080" y="3276720"/>
          <a:ext cx="8280360" cy="2863800"/>
        </p:xfrm>
        <a:graphic>
          <a:graphicData uri="http://schemas.openxmlformats.org/drawingml/2006/table">
            <a:tbl>
              <a:tblPr/>
              <a:tblGrid>
                <a:gridCol w="1079280"/>
                <a:gridCol w="1079640"/>
                <a:gridCol w="1008000"/>
                <a:gridCol w="1081080"/>
                <a:gridCol w="1079640"/>
                <a:gridCol w="1081080"/>
                <a:gridCol w="1047600"/>
                <a:gridCol w="824040"/>
              </a:tblGrid>
              <a:tr h="100800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Segnala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n Idone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rresto Cardia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Non Uti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Utiliz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M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064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no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(30.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96516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no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(33.3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666D-D517-420C-AE84-795AB16AE4C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20800" cy="655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01680" y="81108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Trapianti renali 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2470320"/>
          <a:ext cx="7993080" cy="167940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647640"/>
                <a:gridCol w="576360"/>
                <a:gridCol w="576360"/>
                <a:gridCol w="576000"/>
                <a:gridCol w="576360"/>
                <a:gridCol w="576360"/>
                <a:gridCol w="574560"/>
                <a:gridCol w="649440"/>
                <a:gridCol w="576000"/>
                <a:gridCol w="648000"/>
                <a:gridCol w="792000"/>
              </a:tblGrid>
              <a:tr h="815760">
                <a:tc>
                  <a:txBody>
                    <a:bodyPr lIns="0" rIns="0" tIns="1584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11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0" rIns="0" tIns="612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RENE A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ff3399"/>
                          </a:solidFill>
                          <a:latin typeface="Arial Unicode MS"/>
                          <a:ea typeface="Times New Roman"/>
                        </a:rPr>
                        <a:t>3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948360" y="620640"/>
            <a:ext cx="162576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55008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597E-7DE5-4D10-80F9-6E190A72663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20800" cy="65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40920" y="692280"/>
            <a:ext cx="44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Reni trapiantati in Abruzzo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Risultati qualità 2000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948360" y="620640"/>
            <a:ext cx="1625760" cy="792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0" t="548" r="0" b="3275"/>
          <a:stretch/>
        </p:blipFill>
        <p:spPr>
          <a:xfrm>
            <a:off x="539640" y="1628640"/>
            <a:ext cx="7848720" cy="477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1280" y="2565360"/>
            <a:ext cx="172872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2349360"/>
            <a:ext cx="172872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42CC-1042-4954-9831-F131C4999B6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86800" y="374760"/>
            <a:ext cx="44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Reni trapiantati in Abruzzo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Risultati qua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516720" y="5445000"/>
            <a:ext cx="2217600" cy="102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20800" cy="65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77080" y="333360"/>
            <a:ext cx="1625400" cy="79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2920" y="2565360"/>
            <a:ext cx="86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36440" y="1488960"/>
            <a:ext cx="8756640" cy="6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08000" y="2276640"/>
          <a:ext cx="8964720" cy="1800000"/>
        </p:xfrm>
        <a:graphic>
          <a:graphicData uri="http://schemas.openxmlformats.org/drawingml/2006/table">
            <a:tbl>
              <a:tblPr/>
              <a:tblGrid>
                <a:gridCol w="2016000"/>
                <a:gridCol w="719280"/>
                <a:gridCol w="1182600"/>
                <a:gridCol w="906480"/>
                <a:gridCol w="934920"/>
                <a:gridCol w="936720"/>
                <a:gridCol w="936720"/>
                <a:gridCol w="647640"/>
                <a:gridCol w="684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L’Aquila</a:t>
                      </a: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7.1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4.3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87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talia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549440" y="422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4437000"/>
          <a:ext cx="6337440" cy="609840"/>
        </p:xfrm>
        <a:graphic>
          <a:graphicData uri="http://schemas.openxmlformats.org/drawingml/2006/table">
            <a:tbl>
              <a:tblPr/>
              <a:tblGrid>
                <a:gridCol w="1798920"/>
                <a:gridCol w="865080"/>
                <a:gridCol w="1728720"/>
                <a:gridCol w="19447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no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TX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opr. p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opr. Orga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79280" y="5013360"/>
          <a:ext cx="6337440" cy="760320"/>
        </p:xfrm>
        <a:graphic>
          <a:graphicData uri="http://schemas.openxmlformats.org/drawingml/2006/table">
            <a:tbl>
              <a:tblPr/>
              <a:tblGrid>
                <a:gridCol w="1798920"/>
                <a:gridCol w="865080"/>
                <a:gridCol w="1728720"/>
                <a:gridCol w="1944720"/>
              </a:tblGrid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L’Aqui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65280" y="476280"/>
            <a:ext cx="95400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77080" y="476280"/>
            <a:ext cx="16254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826920" y="2424240"/>
          <a:ext cx="7128000" cy="2589120"/>
        </p:xfrm>
        <a:graphic>
          <a:graphicData uri="http://schemas.openxmlformats.org/drawingml/2006/table">
            <a:tbl>
              <a:tblPr/>
              <a:tblGrid>
                <a:gridCol w="3456000"/>
                <a:gridCol w="3672000"/>
              </a:tblGrid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i Corne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e epifisi femoral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 (ASL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i membrane amniotic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619280" y="476280"/>
          <a:ext cx="5257800" cy="1275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51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tessu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011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539640" y="58611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B4DF-1D6C-4695-BF61-ABF349D0842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948360" y="404640"/>
            <a:ext cx="1625760" cy="8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2050920" y="333360"/>
          <a:ext cx="4824720" cy="1228680"/>
        </p:xfrm>
        <a:graphic>
          <a:graphicData uri="http://schemas.openxmlformats.org/drawingml/2006/table">
            <a:tbl>
              <a:tblPr/>
              <a:tblGrid>
                <a:gridCol w="4824720"/>
              </a:tblGrid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corn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nno 201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476360" y="1881360"/>
          <a:ext cx="5400720" cy="2915640"/>
        </p:xfrm>
        <a:graphic>
          <a:graphicData uri="http://schemas.openxmlformats.org/drawingml/2006/table">
            <a:tbl>
              <a:tblPr/>
              <a:tblGrid>
                <a:gridCol w="3672000"/>
                <a:gridCol w="1728720"/>
              </a:tblGrid>
              <a:tr h="49968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di cornee valut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Opposi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47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(38.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6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Non Idone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44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(36.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3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Utilizz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Cornee inviate Banca degli Occh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L’Aquil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466560" y="636444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76360" y="4797360"/>
          <a:ext cx="5400720" cy="863640"/>
        </p:xfrm>
        <a:graphic>
          <a:graphicData uri="http://schemas.openxmlformats.org/drawingml/2006/table">
            <a:tbl>
              <a:tblPr/>
              <a:tblGrid>
                <a:gridCol w="3672000"/>
                <a:gridCol w="1728720"/>
              </a:tblGrid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Cornee trapiantate in Abruzzo e Mol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Arial Unicode MS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00F-8053-4A1F-A255-5781D8012053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948360" y="404640"/>
            <a:ext cx="1625760" cy="8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2050920" y="333360"/>
          <a:ext cx="4824720" cy="1228680"/>
        </p:xfrm>
        <a:graphic>
          <a:graphicData uri="http://schemas.openxmlformats.org/drawingml/2006/table">
            <a:tbl>
              <a:tblPr/>
              <a:tblGrid>
                <a:gridCol w="4824720"/>
              </a:tblGrid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epifisi femoral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nno 201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258920" y="2205000"/>
          <a:ext cx="6552720" cy="3049560"/>
        </p:xfrm>
        <a:graphic>
          <a:graphicData uri="http://schemas.openxmlformats.org/drawingml/2006/table">
            <a:tbl>
              <a:tblPr/>
              <a:tblGrid>
                <a:gridCol w="4512240"/>
                <a:gridCol w="2040480"/>
              </a:tblGrid>
              <a:tr h="5493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viventi di epifisi femorali valut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Opposi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Non Idone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67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Utizzat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Epifisi inviate Banca del Tessuto Osseo di Bolog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466560" y="636444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3678-B41A-4B98-B70D-2A8733763F5F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187280" y="2060640"/>
          <a:ext cx="6769080" cy="3384000"/>
        </p:xfrm>
        <a:graphic>
          <a:graphicData uri="http://schemas.openxmlformats.org/drawingml/2006/table">
            <a:tbl>
              <a:tblPr/>
              <a:tblGrid>
                <a:gridCol w="1752120"/>
                <a:gridCol w="1707840"/>
                <a:gridCol w="1430280"/>
                <a:gridCol w="1878840"/>
              </a:tblGrid>
              <a:tr h="7495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Ospedale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1584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essuto trapiantato</a:t>
                      </a:r>
                      <a:r>
                        <a:rPr b="0" lang="it-I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000">
                <a:tc>
                  <a:txBody>
                    <a:bodyPr lIns="0" rIns="0" tIns="24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orne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cle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. Amniotich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12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hieti Fisiop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’Aqu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68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vezz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ari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9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TOTA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2411280" y="595440"/>
            <a:ext cx="41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Trapianti tessuti ocul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2011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122960" y="404640"/>
            <a:ext cx="1625760" cy="865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595008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A24-A9DF-4038-8F53-D3696DB556A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2:38:46Z</dcterms:created>
  <dc:creator>CRT Abruzzo-Molise</dc:creator>
  <dc:description/>
  <dc:language>en-US</dc:language>
  <cp:lastModifiedBy>CRT Abruzzo-Molise</cp:lastModifiedBy>
  <dcterms:modified xsi:type="dcterms:W3CDTF">2011-08-22T17:18:36Z</dcterms:modified>
  <cp:revision>51</cp:revision>
  <dc:subject/>
  <dc:title>Diapositiva 1</dc:title>
</cp:coreProperties>
</file>