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04F-0311-4167-94D0-6E0387CD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C16-9318-498A-A067-ADEDD878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19E-CA74-41D6-8A41-A110B818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A61-C86D-4F36-A72E-DA9D198EE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F692-5012-4861-9E79-10DB7446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0E84-4FF9-469D-A971-141B9B7E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4A5E-CF38-4267-92C9-CD59ABF1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37B3-41C0-4038-A697-0F101159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8124-8A9A-429E-8F75-9E123E9B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81F5-5F8D-4698-BC2C-58D9720D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182-76B4-4911-9679-7088C855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D37-4CA3-4626-B3CE-E158D94B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981AFE-FDBE-473E-ACAE-28D70BCFF39C}" type="slidenum">
              <a:rPr b="0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8.jpeg"/><Relationship Id="rId3" Type="http://schemas.openxmlformats.org/officeDocument/2006/relationships/image" Target="../media/image4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95640" y="5472000"/>
            <a:ext cx="1420920" cy="909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200" y="1982880"/>
            <a:ext cx="87138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3200" spc="-1" strike="noStrike">
                <a:solidFill>
                  <a:srgbClr val="009999"/>
                </a:solidFill>
                <a:latin typeface="Monotype Corsiva"/>
                <a:ea typeface="Times New Roman"/>
              </a:rPr>
              <a:t>DONAZIONE e TRAPIANTO di ORGANI e TESSU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cc"/>
                </a:solidFill>
                <a:latin typeface="Monotype Corsiva"/>
              </a:rPr>
              <a:t>Attività   al 24.8.201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86360"/>
            <a:ext cx="49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- Sulmona-L’Aqu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758880" cy="1076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380360" y="333360"/>
            <a:ext cx="812880" cy="102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20000" y="3887640"/>
            <a:ext cx="148104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rcRect l="0" t="0" r="0" b="10612"/>
          <a:stretch/>
        </p:blipFill>
        <p:spPr>
          <a:xfrm>
            <a:off x="179280" y="3780000"/>
            <a:ext cx="2521080" cy="2958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7093080" y="5407200"/>
            <a:ext cx="125892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316080"/>
            <a:ext cx="1095120" cy="80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79640" y="737640"/>
            <a:ext cx="496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ASL-1 Avezzano – Sulmona -L’Aqui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Centro Regionale per i Trapian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200" spc="-1" strike="noStrike">
                <a:solidFill>
                  <a:srgbClr val="000080"/>
                </a:solidFill>
                <a:latin typeface="Monotype Corsiva"/>
                <a:ea typeface="Times New Roman"/>
              </a:rPr>
              <a:t>Regione Abruzzo - Regione Molis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000080" cy="8096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251928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Attività donazione organi al 24.8.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4080" y="3276720"/>
          <a:ext cx="8280360" cy="286380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1008000"/>
                <a:gridCol w="1081080"/>
                <a:gridCol w="1079640"/>
                <a:gridCol w="1081080"/>
                <a:gridCol w="1047600"/>
                <a:gridCol w="824040"/>
              </a:tblGrid>
              <a:tr h="100800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Segnala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Non Idone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rresto Cardia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Non Uti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Donatori Utiliz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M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9064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0.9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965160">
                <a:tc>
                  <a:txBody>
                    <a:bodyPr lIns="0" rIns="0" tIns="5400" bIns="0" anchor="ctr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Ann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(33.3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104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800" spc="-1" strike="noStrike">
                          <a:solidFill>
                            <a:srgbClr val="000066"/>
                          </a:solidFill>
                          <a:latin typeface="Arial Unicode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3EC5-B8D3-4894-945E-BB358675C4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01680" y="81108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Trapianti renali 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95280" y="2470320"/>
          <a:ext cx="7993080" cy="167940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647640"/>
                <a:gridCol w="576360"/>
                <a:gridCol w="576360"/>
                <a:gridCol w="576000"/>
                <a:gridCol w="576360"/>
                <a:gridCol w="576360"/>
                <a:gridCol w="574560"/>
                <a:gridCol w="649440"/>
                <a:gridCol w="576000"/>
                <a:gridCol w="648000"/>
                <a:gridCol w="792000"/>
              </a:tblGrid>
              <a:tr h="815760">
                <a:tc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2011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333399"/>
                          </a:solidFill>
                          <a:latin typeface="Arial Unicode MS"/>
                          <a:ea typeface="Times New Roman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0" rIns="0" tIns="612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RENE A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3399"/>
                          </a:solidFill>
                          <a:latin typeface="Arial Unicode MS"/>
                          <a:ea typeface="Times New Roman"/>
                        </a:rPr>
                        <a:t>3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95280" y="55008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EAA-326E-48BE-BA2D-E40EA5F52B2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820800" cy="655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140920" y="69228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 2000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948360" y="620640"/>
            <a:ext cx="1625760" cy="792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rcRect l="0" t="548" r="0" b="3275"/>
          <a:stretch/>
        </p:blipFill>
        <p:spPr>
          <a:xfrm>
            <a:off x="539640" y="1628640"/>
            <a:ext cx="7848720" cy="477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2565360"/>
            <a:ext cx="1728720" cy="37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2349360"/>
            <a:ext cx="1728720" cy="7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FD42-8180-4D68-BAC2-5C87A37E948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386800" y="37476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Comic Sans MS"/>
              </a:rPr>
              <a:t>Reni trapiantati in Abruzzo</a:t>
            </a: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Comic Sans MS"/>
              </a:rPr>
              <a:t>Risultati qua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516720" y="5445000"/>
            <a:ext cx="2217600" cy="102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820800" cy="655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877080" y="333360"/>
            <a:ext cx="1625400" cy="792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2565360"/>
            <a:ext cx="86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36440" y="1488960"/>
            <a:ext cx="8756640" cy="67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08000" y="2276640"/>
          <a:ext cx="8964720" cy="1800000"/>
        </p:xfrm>
        <a:graphic>
          <a:graphicData uri="http://schemas.openxmlformats.org/drawingml/2006/table">
            <a:tbl>
              <a:tblPr/>
              <a:tblGrid>
                <a:gridCol w="2016000"/>
                <a:gridCol w="719280"/>
                <a:gridCol w="1182600"/>
                <a:gridCol w="906480"/>
                <a:gridCol w="934920"/>
                <a:gridCol w="936720"/>
                <a:gridCol w="936720"/>
                <a:gridCol w="647640"/>
                <a:gridCol w="68436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2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7.1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94.3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87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alia</a:t>
                      </a: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549440" y="4221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79280" y="4437000"/>
          <a:ext cx="6337440" cy="60984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no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X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p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opr. Organ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79280" y="5013360"/>
          <a:ext cx="6337440" cy="760320"/>
        </p:xfrm>
        <a:graphic>
          <a:graphicData uri="http://schemas.openxmlformats.org/drawingml/2006/table">
            <a:tbl>
              <a:tblPr/>
              <a:tblGrid>
                <a:gridCol w="1798920"/>
                <a:gridCol w="865080"/>
                <a:gridCol w="1728720"/>
                <a:gridCol w="194472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L’Aqui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65280" y="476280"/>
            <a:ext cx="95400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77080" y="476280"/>
            <a:ext cx="16254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826920" y="2424240"/>
          <a:ext cx="7128000" cy="2589120"/>
        </p:xfrm>
        <a:graphic>
          <a:graphicData uri="http://schemas.openxmlformats.org/drawingml/2006/table">
            <a:tbl>
              <a:tblPr/>
              <a:tblGrid>
                <a:gridCol w="3456000"/>
                <a:gridCol w="367200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Corne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18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e epifisi femoral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50 (ASL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Donatori membrane amniotich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1619280" y="476280"/>
          <a:ext cx="5257800" cy="1275840"/>
        </p:xfrm>
        <a:graphic>
          <a:graphicData uri="http://schemas.openxmlformats.org/drawingml/2006/table">
            <a:tbl>
              <a:tblPr/>
              <a:tblGrid>
                <a:gridCol w="5257800"/>
              </a:tblGrid>
              <a:tr h="518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tessu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011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539640" y="58611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E94C-0FEE-4D15-A7B5-76E66CAA62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corne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476360" y="1881360"/>
          <a:ext cx="5400720" cy="2915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4996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di cornee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0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7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8.8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26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44 </a:t>
                      </a: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(36.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lizz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33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inviate Banca degli Occh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L’Aquil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476360" y="4797360"/>
          <a:ext cx="5400720" cy="863640"/>
        </p:xfrm>
        <a:graphic>
          <a:graphicData uri="http://schemas.openxmlformats.org/drawingml/2006/table">
            <a:tbl>
              <a:tblPr/>
              <a:tblGrid>
                <a:gridCol w="3672000"/>
                <a:gridCol w="1728720"/>
              </a:tblGrid>
              <a:tr h="863640"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Cornee trapiantate in Abruzzo e Mol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3640" bIns="4680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ff00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DFA-4D1A-4AFB-A0EA-090D0C4669D7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948360" y="404640"/>
            <a:ext cx="1625760" cy="865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2050920" y="333360"/>
          <a:ext cx="4824720" cy="1228680"/>
        </p:xfrm>
        <a:graphic>
          <a:graphicData uri="http://schemas.openxmlformats.org/drawingml/2006/table">
            <a:tbl>
              <a:tblPr/>
              <a:tblGrid>
                <a:gridCol w="4824720"/>
              </a:tblGrid>
              <a:tr h="942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nazione epifisi femoral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bruzzo-Moli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8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16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no 2011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1258920" y="2205000"/>
          <a:ext cx="6552720" cy="3049560"/>
        </p:xfrm>
        <a:graphic>
          <a:graphicData uri="http://schemas.openxmlformats.org/drawingml/2006/table">
            <a:tbl>
              <a:tblPr/>
              <a:tblGrid>
                <a:gridCol w="4512240"/>
                <a:gridCol w="2040480"/>
              </a:tblGrid>
              <a:tr h="5493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viventi di epifisi femorali valut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Opposi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Arial Unicode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Non Idone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67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Donatori Utizzat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Epifisi inviate Banca del Tessuto Osseo di Bolog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cc"/>
                          </a:solidFill>
                          <a:latin typeface="Arial Unicode MS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466560" y="636444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7B99-EE60-43C5-A2FE-28B370B568CF}" type="slidenum">
              <a:t>8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187280" y="2060640"/>
          <a:ext cx="6769080" cy="3384000"/>
        </p:xfrm>
        <a:graphic>
          <a:graphicData uri="http://schemas.openxmlformats.org/drawingml/2006/table">
            <a:tbl>
              <a:tblPr/>
              <a:tblGrid>
                <a:gridCol w="1752120"/>
                <a:gridCol w="1707840"/>
                <a:gridCol w="1430280"/>
                <a:gridCol w="1878840"/>
              </a:tblGrid>
              <a:tr h="749520"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Ospedale</a:t>
                      </a: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1584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essuto trapiantato</a:t>
                      </a:r>
                      <a:r>
                        <a:rPr b="0" lang="it-I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lIns="0" rIns="0" tIns="248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Corne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Scler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540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4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M. Amnioti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Chieti Fisiopa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17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’Aqu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vezz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Larin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960">
                <a:tc>
                  <a:txBody>
                    <a:bodyPr lIns="0" rIns="0" tIns="6840" bIns="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TOTAL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6840" bIns="0" anchor="ctr">
                      <a:noAutofit/>
                    </a:bodyPr>
                    <a:p>
                      <a:pPr algn="ctr">
                        <a:lnSpc>
                          <a:spcPct val="9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800" spc="-1" strike="noStrike">
                          <a:solidFill>
                            <a:srgbClr val="0000ff"/>
                          </a:solidFill>
                          <a:latin typeface="Arial Unicode MS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2411280" y="595440"/>
            <a:ext cx="41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Trapianti tessuti ocul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2011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1073160" cy="85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122960" y="404640"/>
            <a:ext cx="1625760" cy="865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11280" y="595008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* Al 24.8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A8CB-1551-467A-972B-580BD1A91FF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2:38:46Z</dcterms:created>
  <dc:creator>CRT Abruzzo-Molise</dc:creator>
  <dc:description/>
  <dc:language>en-US</dc:language>
  <cp:lastModifiedBy>CRT Abruzzo-Molise</cp:lastModifiedBy>
  <dcterms:modified xsi:type="dcterms:W3CDTF">2011-08-22T17:18:36Z</dcterms:modified>
  <cp:revision>51</cp:revision>
  <dc:subject/>
  <dc:title>Diapositiva 1</dc:title>
</cp:coreProperties>
</file>