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B842-9881-4D39-A610-068D3B82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27EA-F5B4-46F0-89B3-82E8FB92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8827-12EE-4BCB-ADE2-9A02338E6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99EC-FC89-4E88-B3C0-E9D51C5A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4060-98B0-42F7-B127-78CB86FE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BFED-6551-46CA-8497-00148DF3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446A-8E19-4199-8C3F-E01222E0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7DE7-B8A1-4EE6-ACA3-2F711232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3A96-F69A-4779-A9F6-49CD826D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50E3-88C5-4934-A711-A5AF4426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F84F-6E3F-47FF-890E-8B72F9B2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BBED-0E02-4777-9687-0C2CA265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797045-F0DD-4851-B053-D7060F94BD6C}" type="slidenum">
              <a:rPr b="0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95640" y="5472000"/>
            <a:ext cx="1420920" cy="909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200" y="1982880"/>
            <a:ext cx="87138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9999"/>
                </a:solidFill>
                <a:latin typeface="Monotype Corsiva"/>
                <a:ea typeface="Times New Roman"/>
              </a:rPr>
              <a:t>DONAZIONE e TRAPIANTO di ORGANI e TESSU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cc"/>
                </a:solidFill>
                <a:latin typeface="Monotype Corsiva"/>
              </a:rPr>
              <a:t>Attività   al 24.8.20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86360"/>
            <a:ext cx="49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ASL-1 Avezzano - Sulmona-L’Aqu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Centro Regionale per i Trapi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Regione Abruzzo - Regione Mol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758880" cy="1076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380360" y="333360"/>
            <a:ext cx="812880" cy="1025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020000" y="3887640"/>
            <a:ext cx="1481040" cy="792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rcRect l="0" t="0" r="0" b="10612"/>
          <a:stretch/>
        </p:blipFill>
        <p:spPr>
          <a:xfrm>
            <a:off x="179280" y="3780000"/>
            <a:ext cx="2521080" cy="2958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7093080" y="5407200"/>
            <a:ext cx="1258920" cy="90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316080"/>
            <a:ext cx="1095120" cy="809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79640" y="737640"/>
            <a:ext cx="496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ASL-1 Avezzano – Sulmona -L’Aqui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Centro Regionale per i Trapian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Regione Abruzzo - Regione Moli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524720" y="260280"/>
            <a:ext cx="1000080" cy="809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32000" y="251928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mic Sans MS"/>
              </a:rPr>
              <a:t>Attività donazione organi al 24.8.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4080" y="3276720"/>
          <a:ext cx="8280360" cy="2863800"/>
        </p:xfrm>
        <a:graphic>
          <a:graphicData uri="http://schemas.openxmlformats.org/drawingml/2006/table">
            <a:tbl>
              <a:tblPr/>
              <a:tblGrid>
                <a:gridCol w="1079280"/>
                <a:gridCol w="1079640"/>
                <a:gridCol w="1008000"/>
                <a:gridCol w="1081080"/>
                <a:gridCol w="1079640"/>
                <a:gridCol w="1081080"/>
                <a:gridCol w="1047600"/>
                <a:gridCol w="824040"/>
              </a:tblGrid>
              <a:tr h="1008000">
                <a:tc>
                  <a:txBody>
                    <a:bodyPr lIns="0" rIns="0" tIns="5400" bIns="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onatori Segnala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p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onator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Non Idone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rresto Cardia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onatori Non Uti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onatori Utiliz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M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0640">
                <a:tc>
                  <a:txBody>
                    <a:bodyPr lIns="0" rIns="0" tIns="5400" bIns="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nno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(30.9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965160">
                <a:tc>
                  <a:txBody>
                    <a:bodyPr lIns="0" rIns="0" tIns="5400" bIns="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nno 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(33.3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E627-6250-4AFE-AC3C-ED45ED07922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820800" cy="655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01680" y="811080"/>
            <a:ext cx="27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Trapianti renali </a:t>
            </a:r>
            <a:r>
              <a:rPr b="0" lang="it-IT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95280" y="2470320"/>
          <a:ext cx="7993080" cy="1679400"/>
        </p:xfrm>
        <a:graphic>
          <a:graphicData uri="http://schemas.openxmlformats.org/drawingml/2006/table">
            <a:tbl>
              <a:tblPr/>
              <a:tblGrid>
                <a:gridCol w="647640"/>
                <a:gridCol w="576360"/>
                <a:gridCol w="647640"/>
                <a:gridCol w="576360"/>
                <a:gridCol w="576360"/>
                <a:gridCol w="576000"/>
                <a:gridCol w="576360"/>
                <a:gridCol w="576360"/>
                <a:gridCol w="574560"/>
                <a:gridCol w="649440"/>
                <a:gridCol w="576000"/>
                <a:gridCol w="648000"/>
                <a:gridCol w="792000"/>
              </a:tblGrid>
              <a:tr h="815760">
                <a:tc>
                  <a:txBody>
                    <a:bodyPr lIns="0" rIns="0" tIns="1584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2011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TO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3640">
                <a:tc>
                  <a:txBody>
                    <a:bodyPr lIns="0" rIns="0" tIns="612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RENE A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ff3399"/>
                          </a:solidFill>
                          <a:latin typeface="Arial Unicode MS"/>
                          <a:ea typeface="Times New Roman"/>
                        </a:rPr>
                        <a:t>3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948360" y="620640"/>
            <a:ext cx="162576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5280" y="55008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Al 24.8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41B0-732C-4300-9990-6EA359F1F3C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820800" cy="655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40920" y="692280"/>
            <a:ext cx="44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Reni trapiantati in Abruzzo</a:t>
            </a:r>
            <a:r>
              <a:rPr b="0" lang="it-IT" sz="2400" spc="-1" strike="noStrike">
                <a:solidFill>
                  <a:srgbClr val="0000cc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Comic Sans MS"/>
              </a:rPr>
              <a:t>Risultati qualità 2000-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948360" y="620640"/>
            <a:ext cx="1625760" cy="792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rcRect l="0" t="548" r="0" b="3275"/>
          <a:stretch/>
        </p:blipFill>
        <p:spPr>
          <a:xfrm>
            <a:off x="539640" y="1628640"/>
            <a:ext cx="7848720" cy="4770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11280" y="2565360"/>
            <a:ext cx="1728720" cy="37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2349360"/>
            <a:ext cx="172872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E19F-70CE-4154-8441-9240EB48E83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86800" y="374760"/>
            <a:ext cx="44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Reni trapiantati in Abruzzo</a:t>
            </a:r>
            <a:r>
              <a:rPr b="0" lang="it-IT" sz="2400" spc="-1" strike="noStrike">
                <a:solidFill>
                  <a:srgbClr val="0000cc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Comic Sans MS"/>
              </a:rPr>
              <a:t>Risultati qua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516720" y="5445000"/>
            <a:ext cx="2217600" cy="102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820800" cy="65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877080" y="333360"/>
            <a:ext cx="1625400" cy="792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42920" y="2565360"/>
            <a:ext cx="86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36440" y="1488960"/>
            <a:ext cx="8756640" cy="67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108000" y="2276640"/>
          <a:ext cx="8964720" cy="1800000"/>
        </p:xfrm>
        <a:graphic>
          <a:graphicData uri="http://schemas.openxmlformats.org/drawingml/2006/table">
            <a:tbl>
              <a:tblPr/>
              <a:tblGrid>
                <a:gridCol w="2016000"/>
                <a:gridCol w="719280"/>
                <a:gridCol w="1182600"/>
                <a:gridCol w="906480"/>
                <a:gridCol w="934920"/>
                <a:gridCol w="936720"/>
                <a:gridCol w="936720"/>
                <a:gridCol w="647640"/>
                <a:gridCol w="6843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L’Aquila</a:t>
                      </a: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         </a:t>
                      </a: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97.1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9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94.3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87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Italia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9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549440" y="422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79280" y="4437000"/>
          <a:ext cx="6337440" cy="609840"/>
        </p:xfrm>
        <a:graphic>
          <a:graphicData uri="http://schemas.openxmlformats.org/drawingml/2006/table">
            <a:tbl>
              <a:tblPr/>
              <a:tblGrid>
                <a:gridCol w="1798920"/>
                <a:gridCol w="865080"/>
                <a:gridCol w="1728720"/>
                <a:gridCol w="19447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no 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TX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Sopr. p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Sopr. Organ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79280" y="5013360"/>
          <a:ext cx="6337440" cy="760320"/>
        </p:xfrm>
        <a:graphic>
          <a:graphicData uri="http://schemas.openxmlformats.org/drawingml/2006/table">
            <a:tbl>
              <a:tblPr/>
              <a:tblGrid>
                <a:gridCol w="1798920"/>
                <a:gridCol w="865080"/>
                <a:gridCol w="1728720"/>
                <a:gridCol w="1944720"/>
              </a:tblGrid>
              <a:tr h="8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L’Aqui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65280" y="476280"/>
            <a:ext cx="954000" cy="76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877080" y="476280"/>
            <a:ext cx="16254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826920" y="2424240"/>
          <a:ext cx="7128000" cy="2589120"/>
        </p:xfrm>
        <a:graphic>
          <a:graphicData uri="http://schemas.openxmlformats.org/drawingml/2006/table">
            <a:tbl>
              <a:tblPr/>
              <a:tblGrid>
                <a:gridCol w="3456000"/>
                <a:gridCol w="3672000"/>
              </a:tblGrid>
              <a:tr h="863640"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Donatori Corne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1840"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Donatore epifisi femoral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0 (ASL 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Donatori membrane amniotich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1619280" y="476280"/>
          <a:ext cx="5257800" cy="1275840"/>
        </p:xfrm>
        <a:graphic>
          <a:graphicData uri="http://schemas.openxmlformats.org/drawingml/2006/table">
            <a:tbl>
              <a:tblPr/>
              <a:tblGrid>
                <a:gridCol w="5257800"/>
              </a:tblGrid>
              <a:tr h="518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onazione tessu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2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bruzzo-Mol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011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539640" y="58611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Al 24.8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4879-80D8-4FAF-A830-A945256D648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073160" cy="857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948360" y="404640"/>
            <a:ext cx="1625760" cy="86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2050920" y="333360"/>
          <a:ext cx="4824720" cy="1228680"/>
        </p:xfrm>
        <a:graphic>
          <a:graphicData uri="http://schemas.openxmlformats.org/drawingml/2006/table">
            <a:tbl>
              <a:tblPr/>
              <a:tblGrid>
                <a:gridCol w="4824720"/>
              </a:tblGrid>
              <a:tr h="942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onazione corn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bruzzo-Mol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nno 2011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476360" y="1881360"/>
          <a:ext cx="5400720" cy="2915640"/>
        </p:xfrm>
        <a:graphic>
          <a:graphicData uri="http://schemas.openxmlformats.org/drawingml/2006/table">
            <a:tbl>
              <a:tblPr/>
              <a:tblGrid>
                <a:gridCol w="3672000"/>
                <a:gridCol w="1728720"/>
              </a:tblGrid>
              <a:tr h="49968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Donatori di cornee valut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Opposi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47 </a:t>
                      </a: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(38.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264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Non Idone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44 </a:t>
                      </a: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(36.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36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Donatori Utilizz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Cornee inviate Banca degli Occh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L’Aquil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466560" y="636444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Al 24.8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476360" y="4797360"/>
          <a:ext cx="5400720" cy="863640"/>
        </p:xfrm>
        <a:graphic>
          <a:graphicData uri="http://schemas.openxmlformats.org/drawingml/2006/table">
            <a:tbl>
              <a:tblPr/>
              <a:tblGrid>
                <a:gridCol w="3672000"/>
                <a:gridCol w="1728720"/>
              </a:tblGrid>
              <a:tr h="863640"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Cornee trapiantate in Abruzzo e Mol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ff00"/>
                          </a:solidFill>
                          <a:latin typeface="Arial Unicode MS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4779-1F86-4036-8BA9-E48C5A2371A1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073160" cy="857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948360" y="404640"/>
            <a:ext cx="1625760" cy="86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2050920" y="333360"/>
          <a:ext cx="4824720" cy="1228680"/>
        </p:xfrm>
        <a:graphic>
          <a:graphicData uri="http://schemas.openxmlformats.org/drawingml/2006/table">
            <a:tbl>
              <a:tblPr/>
              <a:tblGrid>
                <a:gridCol w="4824720"/>
              </a:tblGrid>
              <a:tr h="942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onazione epifisi femoral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bruzzo-Mol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nno 2011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1258920" y="2205000"/>
          <a:ext cx="6552720" cy="3049560"/>
        </p:xfrm>
        <a:graphic>
          <a:graphicData uri="http://schemas.openxmlformats.org/drawingml/2006/table">
            <a:tbl>
              <a:tblPr/>
              <a:tblGrid>
                <a:gridCol w="4512240"/>
                <a:gridCol w="2040480"/>
              </a:tblGrid>
              <a:tr h="54936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Donatori viventi di epifisi femorali valut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Opposi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Non Idone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672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Donatori Utizzat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808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Epifisi inviate Banca del Tessuto Osseo di Bolog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466560" y="636444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Al 24.8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D558-49EA-4A14-AAFB-99AA4D2D9330}" type="slidenum">
              <a:t>8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0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187280" y="2060640"/>
          <a:ext cx="6769080" cy="3384000"/>
        </p:xfrm>
        <a:graphic>
          <a:graphicData uri="http://schemas.openxmlformats.org/drawingml/2006/table">
            <a:tbl>
              <a:tblPr/>
              <a:tblGrid>
                <a:gridCol w="1752120"/>
                <a:gridCol w="1707840"/>
                <a:gridCol w="1430280"/>
                <a:gridCol w="1878840"/>
              </a:tblGrid>
              <a:tr h="74952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Ospedale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1584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essuto trapiantato</a:t>
                      </a:r>
                      <a:r>
                        <a:rPr b="0" lang="it-I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000">
                <a:tc>
                  <a:txBody>
                    <a:bodyPr lIns="0" rIns="0" tIns="24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Corne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Scle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. Amniotich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120">
                <a:tc>
                  <a:txBody>
                    <a:bodyPr lIns="0" rIns="0" tIns="6840" bIns="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hieti Fisiopa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0" rIns="0" tIns="6840" bIns="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’Aqu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680">
                <a:tc>
                  <a:txBody>
                    <a:bodyPr lIns="0" rIns="0" tIns="6840" bIns="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vezz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0" rIns="0" tIns="6840" bIns="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ari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960">
                <a:tc>
                  <a:txBody>
                    <a:bodyPr lIns="0" rIns="0" tIns="6840" bIns="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TOTA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2411280" y="595440"/>
            <a:ext cx="41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Trapianti tessuti ocula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2011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073160" cy="85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122960" y="404640"/>
            <a:ext cx="1625760" cy="865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11280" y="595008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Al 24.8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8AC1-5CF1-4A66-8F51-72F2C554822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2:38:46Z</dcterms:created>
  <dc:creator>CRT Abruzzo-Molise</dc:creator>
  <dc:description/>
  <dc:language>en-US</dc:language>
  <cp:lastModifiedBy>CRT Abruzzo-Molise</cp:lastModifiedBy>
  <dcterms:modified xsi:type="dcterms:W3CDTF">2011-08-22T17:18:36Z</dcterms:modified>
  <cp:revision>51</cp:revision>
  <dc:subject/>
  <dc:title>Diapositiva 1</dc:title>
</cp:coreProperties>
</file>