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A07-3AFA-4872-AB03-45F998F8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F31-E46E-4D29-9FB6-62663039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B3F-F619-4592-BC47-3096B923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815-1DF3-4C09-9CBE-A4FE728B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F81-4BBC-4023-B233-F0E6FC2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ED3-9810-464B-931F-60D0A287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0AB-5743-404D-8A3D-FFC2568F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C37-EF32-4979-AE70-1D92A585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E9C-2A29-46D5-9BE4-392CC758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913-ABCE-4D91-93E7-70418407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2FF-2612-48BA-AB83-22B6942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7C5-C2DC-4F70-96E4-8A24353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980AA4-DD78-4AD8-B37C-7E91AABA994D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5640" y="5472000"/>
            <a:ext cx="1420920" cy="9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1982880"/>
            <a:ext cx="8713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  <a:ea typeface="Times New Roman"/>
              </a:rPr>
              <a:t>DONAZIONE e TRAPIANTO di ORGANI e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Monotype Corsiva"/>
              </a:rPr>
              <a:t>Attività   al 24.8.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8636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- Sulmona-L’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588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812880" cy="102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3887640"/>
            <a:ext cx="148104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0" b="10612"/>
          <a:stretch/>
        </p:blipFill>
        <p:spPr>
          <a:xfrm>
            <a:off x="179280" y="3780000"/>
            <a:ext cx="2521080" cy="295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5407200"/>
            <a:ext cx="125892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1095120" cy="80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737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– Sulmona -L’Aqui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00080" cy="8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2519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Attività donazione organi al 24.8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080" y="3276720"/>
          <a:ext cx="8280360" cy="28638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08000"/>
                <a:gridCol w="1081080"/>
                <a:gridCol w="1079640"/>
                <a:gridCol w="1081080"/>
                <a:gridCol w="1047600"/>
                <a:gridCol w="824040"/>
              </a:tblGrid>
              <a:tr h="100800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Segnal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 Idon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rresto Cardi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Non Ut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Utiliz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M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96516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3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D67-A19A-4612-B89F-9BD2F088E35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1680" y="8110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rapianti renali 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470320"/>
          <a:ext cx="7993080" cy="16794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647640"/>
                <a:gridCol w="576360"/>
                <a:gridCol w="576360"/>
                <a:gridCol w="576000"/>
                <a:gridCol w="576360"/>
                <a:gridCol w="576360"/>
                <a:gridCol w="574560"/>
                <a:gridCol w="649440"/>
                <a:gridCol w="576000"/>
                <a:gridCol w="648000"/>
                <a:gridCol w="792000"/>
              </a:tblGrid>
              <a:tr h="815760">
                <a:tc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612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RENE 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3399"/>
                          </a:solidFill>
                          <a:latin typeface="Arial Unicode MS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500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3B9-A39E-438A-BBC8-A69933EAD2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0920" y="69228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 2000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548" r="0" b="3275"/>
          <a:stretch/>
        </p:blipFill>
        <p:spPr>
          <a:xfrm>
            <a:off x="539640" y="1628640"/>
            <a:ext cx="7848720" cy="477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2565360"/>
            <a:ext cx="172872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172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1FF-AE3A-4B7F-AF57-8CCEDE3FC3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86800" y="37476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5445000"/>
            <a:ext cx="2217600" cy="102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20800" cy="65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6254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25653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36440" y="1488960"/>
            <a:ext cx="875664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000" y="2276640"/>
          <a:ext cx="8964720" cy="1800000"/>
        </p:xfrm>
        <a:graphic>
          <a:graphicData uri="http://schemas.openxmlformats.org/drawingml/2006/table">
            <a:tbl>
              <a:tblPr/>
              <a:tblGrid>
                <a:gridCol w="2016000"/>
                <a:gridCol w="719280"/>
                <a:gridCol w="1182600"/>
                <a:gridCol w="906480"/>
                <a:gridCol w="934920"/>
                <a:gridCol w="936720"/>
                <a:gridCol w="936720"/>
                <a:gridCol w="647640"/>
                <a:gridCol w="68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7.1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alia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54944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4437000"/>
          <a:ext cx="6337440" cy="60984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o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Orga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5013360"/>
          <a:ext cx="6337440" cy="76032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280" y="476280"/>
            <a:ext cx="954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6254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26920" y="2424240"/>
          <a:ext cx="7128000" cy="2589120"/>
        </p:xfrm>
        <a:graphic>
          <a:graphicData uri="http://schemas.openxmlformats.org/drawingml/2006/table">
            <a:tbl>
              <a:tblPr/>
              <a:tblGrid>
                <a:gridCol w="3456000"/>
                <a:gridCol w="367200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Corne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e epifisi femo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(AS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membrane amnioti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19280" y="476280"/>
          <a:ext cx="5257800" cy="1275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tessu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1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58611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8F4-45E2-471C-8F2E-AF5A3F7E37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corn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476360" y="1881360"/>
          <a:ext cx="5400720" cy="2915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4996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di cornee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7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4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6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lizz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inviate Banca degli Occh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L’Aqui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4797360"/>
          <a:ext cx="5400720" cy="863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trapiantate in Abruzzo e Mo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2C1-F0CA-4CDE-8EEC-B8874790ED37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epifisi femoral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58920" y="2205000"/>
          <a:ext cx="6552720" cy="3049560"/>
        </p:xfrm>
        <a:graphic>
          <a:graphicData uri="http://schemas.openxmlformats.org/drawingml/2006/table">
            <a:tbl>
              <a:tblPr/>
              <a:tblGrid>
                <a:gridCol w="4512240"/>
                <a:gridCol w="2040480"/>
              </a:tblGrid>
              <a:tr h="54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viventi di epifisi femorali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zz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Epifisi inviate Banca del Tessuto Osseo di 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90A-F48E-49DE-AFAA-2BEAEBB44966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2060640"/>
          <a:ext cx="6769080" cy="3384000"/>
        </p:xfrm>
        <a:graphic>
          <a:graphicData uri="http://schemas.openxmlformats.org/drawingml/2006/table">
            <a:tbl>
              <a:tblPr/>
              <a:tblGrid>
                <a:gridCol w="1752120"/>
                <a:gridCol w="1707840"/>
                <a:gridCol w="1430280"/>
                <a:gridCol w="1878840"/>
              </a:tblGrid>
              <a:tr h="7495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spedal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suto trapiantato</a:t>
                      </a:r>
                      <a:r>
                        <a:rPr b="0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0" rIns="0" tIns="24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rn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l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. Amnio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eti Fisiop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’Aq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zz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ri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TO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595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Trapianti tessuti ocu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201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22960" y="404640"/>
            <a:ext cx="162576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A2E-2318-4535-B053-7A5866BA41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38:46Z</dcterms:created>
  <dc:creator>CRT Abruzzo-Molise</dc:creator>
  <dc:description/>
  <dc:language>en-US</dc:language>
  <cp:lastModifiedBy>CRT Abruzzo-Molise</cp:lastModifiedBy>
  <dcterms:modified xsi:type="dcterms:W3CDTF">2011-08-22T17:18:36Z</dcterms:modified>
  <cp:revision>51</cp:revision>
  <dc:subject/>
  <dc:title>Diapositiva 1</dc:title>
</cp:coreProperties>
</file>